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907588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74400" y="726840"/>
            <a:ext cx="2511720" cy="362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6400" cy="435132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18792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18792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b">
            <a:noAutofit/>
          </a:bodyPr>
          <a:lstStyle>
            <a:lvl1pPr indent="0" algn="r">
              <a:buNone/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fld id="{52C6E3B3-CB69-4A22-8DBC-7EAE857FFFDD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079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b">
            <a:noAutofit/>
          </a:bodyPr>
          <a:p>
            <a:pPr algn="r"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fld id="{AB48D819-D349-47F1-82B1-F104366BE529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2174760" y="727200"/>
            <a:ext cx="2511720" cy="36255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64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7C96-0928-4696-A3ED-DBBDD47AF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43D6-2482-4B7F-B377-BBAD6D81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96FA-5CD0-41DD-AE5A-33EBE4153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616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8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616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2DAE-2EFE-4621-8903-8488130DF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375"/>
              </a:spcBef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F62B-B16F-4450-91F5-425F229B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6AE0-4EFB-41A9-83A2-8902E2C8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4F07-F39F-41F8-A6C8-6CA1365A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37CD-1837-40AB-81C5-97D1D542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5880" y="878040"/>
            <a:ext cx="58262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375"/>
              </a:spcBef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140B-442A-45B5-B0F2-AA993A12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C515-17BE-4769-99FE-B9EC14E5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1DAF-E1F7-4E0B-BBE1-EFC516BF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8FD3-708A-4D82-A113-0513EDE3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5880" y="878040"/>
            <a:ext cx="5826240" cy="165096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33000"/>
          </a:bodyPr>
          <a:p>
            <a:pPr marL="325800" indent="-32580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1" marL="707760" indent="-27504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468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0280" indent="-21672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5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6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55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1440" y="9031320"/>
            <a:ext cx="217512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29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GB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fld id="{4ED49C38-C899-455C-93C0-810598526061}" type="slidenum"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24"/>
          <p:cNvSpPr/>
          <p:nvPr/>
        </p:nvSpPr>
        <p:spPr>
          <a:xfrm>
            <a:off x="836640" y="344520"/>
            <a:ext cx="5329080" cy="865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97"/>
          <p:cNvSpPr/>
          <p:nvPr/>
        </p:nvSpPr>
        <p:spPr>
          <a:xfrm>
            <a:off x="533520" y="1676520"/>
            <a:ext cx="5919840" cy="1447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바탕"/>
              </a:rPr>
              <a:t>,,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Reabilitare Strada Vanatorilor, situata intre strada Ghioceilor si Stadionului, </a:t>
            </a:r>
            <a:r>
              <a:rPr b="1" lang="fr-FR" sz="2400" spc="-1" strike="noStrike">
                <a:solidFill>
                  <a:srgbClr val="000000"/>
                </a:solidFill>
                <a:latin typeface="바탕"/>
              </a:rPr>
              <a:t>Sfantu Gheorghe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23"/>
          <p:cNvSpPr/>
          <p:nvPr/>
        </p:nvSpPr>
        <p:spPr>
          <a:xfrm>
            <a:off x="533520" y="344520"/>
            <a:ext cx="5715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3160" rIns="263160" tIns="131760" bIns="131760" anchor="t">
            <a:spAutoFit/>
          </a:bodyPr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ENEFICIAR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RIMARIA MUNICIPIULUI SFANTU GHEORG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38"/>
          <p:cNvSpPr/>
          <p:nvPr/>
        </p:nvSpPr>
        <p:spPr>
          <a:xfrm>
            <a:off x="533880" y="8763120"/>
            <a:ext cx="5802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Times New Roman"/>
              </a:rPr>
              <a:t>ELABORATO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SC TOP PROIECT &amp; CONSULTING - Sfantu Gheorg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WordArt 257"/>
          <p:cNvSpPr txBox="1"/>
          <p:nvPr/>
        </p:nvSpPr>
        <p:spPr>
          <a:xfrm>
            <a:off x="1887480" y="8048520"/>
            <a:ext cx="3311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OCUMENTATIE AVIZ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5T06:50:28Z</dcterms:created>
  <dc:creator>Unknown User</dc:creator>
  <dc:description/>
  <dc:language>en-US</dc:language>
  <cp:lastModifiedBy>lucian</cp:lastModifiedBy>
  <cp:lastPrinted>2010-02-28T18:51:42Z</cp:lastPrinted>
  <dcterms:modified xsi:type="dcterms:W3CDTF">2014-09-25T14:35:30Z</dcterms:modified>
  <cp:revision>185</cp:revision>
  <dc:subject/>
  <dc:title>PowerPoint Presentation</dc:title>
</cp:coreProperties>
</file>