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858000" cy="9907588"/>
  <p:notesSz cx="6710363" cy="9845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10400" cy="984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lIns="63000" rIns="63000" tIns="31680" bIns="31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01600" y="-36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lIns="63000" rIns="63000" tIns="31680" bIns="31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80800" y="739800"/>
            <a:ext cx="2552760" cy="368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1400" y="4676400"/>
            <a:ext cx="5369040" cy="4427640"/>
          </a:xfrm>
          <a:prstGeom prst="rect">
            <a:avLst/>
          </a:prstGeom>
          <a:noFill/>
          <a:ln w="0">
            <a:noFill/>
          </a:ln>
        </p:spPr>
        <p:txBody>
          <a:bodyPr lIns="63000" rIns="63000" tIns="31680" bIns="31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49920"/>
            <a:ext cx="2908440" cy="492120"/>
          </a:xfrm>
          <a:prstGeom prst="rect">
            <a:avLst/>
          </a:prstGeom>
          <a:noFill/>
          <a:ln w="0">
            <a:noFill/>
          </a:ln>
        </p:spPr>
        <p:txBody>
          <a:bodyPr lIns="63000" rIns="63000" tIns="31680" bIns="31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01600" y="9349920"/>
            <a:ext cx="2908440" cy="492120"/>
          </a:xfrm>
          <a:prstGeom prst="rect">
            <a:avLst/>
          </a:prstGeom>
          <a:noFill/>
          <a:ln w="0">
            <a:noFill/>
          </a:ln>
        </p:spPr>
        <p:txBody>
          <a:bodyPr lIns="63000" rIns="63000" tIns="31680" bIns="31680" anchor="b">
            <a:noAutofit/>
          </a:bodyPr>
          <a:lstStyle>
            <a:lvl1pPr indent="0" algn="r">
              <a:buNone/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fld id="{7084752F-80E5-451E-91E6-5A1A3C6DE669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3079"/>
          <p:cNvSpPr/>
          <p:nvPr/>
        </p:nvSpPr>
        <p:spPr>
          <a:xfrm>
            <a:off x="3801960" y="9350280"/>
            <a:ext cx="29084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000" rIns="63000" tIns="31680" bIns="31680" anchor="b">
            <a:noAutofit/>
          </a:bodyPr>
          <a:p>
            <a:pPr algn="r"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fld id="{EE508EA7-E03F-4B75-9197-57557D34D4C4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2081160" y="739800"/>
            <a:ext cx="2552760" cy="368928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71400" y="4676400"/>
            <a:ext cx="536904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647F-5A88-45E4-9D7C-D4A2354AC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582624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8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880" y="5963040"/>
            <a:ext cx="582624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8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6AF5-FF13-4F93-8E67-A34E7A43C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5880" y="59630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30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DE38-62F5-4594-8065-6C2D77098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6160" y="28544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544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5880" y="59630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6160" y="59630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30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E8A0-1B90-4B65-B8CE-27263BD34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5880" y="2854440"/>
            <a:ext cx="5826240" cy="59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375"/>
              </a:spcBef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C6AD-D719-480C-9CFB-827CF4849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582624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D465-35E8-4487-8469-D145202CC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77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77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B20D-1120-4E06-8D63-05445385D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C274-2905-4B3C-ADBB-DDCDB54C0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5880" y="878040"/>
            <a:ext cx="582624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375"/>
              </a:spcBef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FF10-96F2-42B9-8DB3-73A2D4D70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77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5880" y="59630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ED01-6523-4128-B85B-0683DAED5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77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30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429B-EF21-4079-98ED-20D511F20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880" y="5963040"/>
            <a:ext cx="582624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8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DCCE-7B22-42EE-BA62-5F1396040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5880" y="878040"/>
            <a:ext cx="5826240" cy="165096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5880" y="2854440"/>
            <a:ext cx="582624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33000"/>
          </a:bodyPr>
          <a:p>
            <a:pPr marL="325800" indent="-325800">
              <a:spcBef>
                <a:spcPts val="2375"/>
              </a:spcBef>
              <a:buClr>
                <a:srgbClr val="000000"/>
              </a:buClr>
              <a:buFont typeface="Times New Roman"/>
              <a:buChar char="•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1" marL="707760" indent="-275040">
              <a:spcBef>
                <a:spcPts val="2375"/>
              </a:spcBef>
              <a:buClr>
                <a:srgbClr val="000000"/>
              </a:buClr>
              <a:buFont typeface="Times New Roman"/>
              <a:buChar char="–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4680" indent="-215640">
              <a:spcBef>
                <a:spcPts val="2375"/>
              </a:spcBef>
              <a:buClr>
                <a:srgbClr val="000000"/>
              </a:buClr>
              <a:buFont typeface="Times New Roman"/>
              <a:buChar char="•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3" marL="1520280" indent="-216720">
              <a:spcBef>
                <a:spcPts val="2375"/>
              </a:spcBef>
              <a:buClr>
                <a:srgbClr val="000000"/>
              </a:buClr>
              <a:buFont typeface="Times New Roman"/>
              <a:buChar char="–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4" marL="1954800" indent="-215640">
              <a:spcBef>
                <a:spcPts val="2375"/>
              </a:spcBef>
              <a:buClr>
                <a:srgbClr val="000000"/>
              </a:buClr>
              <a:buFont typeface="Times New Roman"/>
              <a:buChar char="»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5" marL="1954800" indent="-215640">
              <a:spcBef>
                <a:spcPts val="2375"/>
              </a:spcBef>
              <a:buClr>
                <a:srgbClr val="000000"/>
              </a:buClr>
              <a:buFont typeface="Times New Roman"/>
              <a:buChar char="»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6" marL="1954800" indent="-215640">
              <a:spcBef>
                <a:spcPts val="2375"/>
              </a:spcBef>
              <a:buClr>
                <a:srgbClr val="000000"/>
              </a:buClr>
              <a:buFont typeface="Times New Roman"/>
              <a:buChar char="»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5520" y="9031320"/>
            <a:ext cx="1428840" cy="6523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1440" y="9031320"/>
            <a:ext cx="2175120" cy="6523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2920" y="9031320"/>
            <a:ext cx="1428840" cy="6523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Autofit/>
          </a:bodyPr>
          <a:lstStyle>
            <a:lvl1pPr indent="0" algn="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  <a:defRPr b="0" lang="en-GB" sz="4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fld id="{08106054-3E74-423B-9017-C5ABEA77A01E}" type="slidenum"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224"/>
          <p:cNvSpPr/>
          <p:nvPr/>
        </p:nvSpPr>
        <p:spPr>
          <a:xfrm>
            <a:off x="836640" y="344520"/>
            <a:ext cx="5329080" cy="865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97"/>
          <p:cNvSpPr/>
          <p:nvPr/>
        </p:nvSpPr>
        <p:spPr>
          <a:xfrm>
            <a:off x="533520" y="1676520"/>
            <a:ext cx="5919840" cy="1339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바탕"/>
              </a:rPr>
              <a:t>,, </a:t>
            </a:r>
            <a:r>
              <a:rPr b="1" sz="2400" spc="-1" strike="noStrike">
                <a:solidFill>
                  <a:srgbClr val="000000"/>
                </a:solidFill>
                <a:latin typeface="바탕"/>
              </a:rPr>
              <a:t>Reabilitare Strada Vanatorilor, situata intre strada Ghioceilor si Panorama Lumii, </a:t>
            </a:r>
            <a:r>
              <a:rPr b="1" lang="fr-FR" sz="2400" spc="-1" strike="noStrike">
                <a:solidFill>
                  <a:srgbClr val="000000"/>
                </a:solidFill>
                <a:latin typeface="바탕"/>
              </a:rPr>
              <a:t>Sfantu Gheorghe </a:t>
            </a:r>
            <a:r>
              <a:rPr b="1" sz="2400" spc="-1" strike="noStrike">
                <a:solidFill>
                  <a:srgbClr val="000000"/>
                </a:solidFill>
                <a:latin typeface="바탕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223"/>
          <p:cNvSpPr/>
          <p:nvPr/>
        </p:nvSpPr>
        <p:spPr>
          <a:xfrm>
            <a:off x="533520" y="344520"/>
            <a:ext cx="57150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3160" rIns="263160" tIns="131760" bIns="131760" anchor="t">
            <a:spAutoFit/>
          </a:bodyPr>
          <a:p>
            <a:pPr algn="ctr"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ENEFICIAR 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RIMARIA MUNICIPIULUI SFANTU GHEORG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238"/>
          <p:cNvSpPr/>
          <p:nvPr/>
        </p:nvSpPr>
        <p:spPr>
          <a:xfrm>
            <a:off x="533880" y="8763120"/>
            <a:ext cx="58028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Times New Roman"/>
              </a:rPr>
              <a:t>ELABORATOR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Times New Roman"/>
              </a:rPr>
              <a:t>SC TOP PROIECT &amp; CONSULTING - Sfantu Gheorg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WordArt 255"/>
          <p:cNvSpPr txBox="1"/>
          <p:nvPr/>
        </p:nvSpPr>
        <p:spPr>
          <a:xfrm>
            <a:off x="1752480" y="7924680"/>
            <a:ext cx="3429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XPERTIZA TEHNIC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53" name="Picture 257" descr="G:\PROIECTE\STRAZI\NOI.2010\Vanatorilor\SANY0182.JPG"/>
          <p:cNvPicPr/>
          <p:nvPr/>
        </p:nvPicPr>
        <p:blipFill>
          <a:blip r:embed="rId1"/>
          <a:stretch/>
        </p:blipFill>
        <p:spPr>
          <a:xfrm>
            <a:off x="762120" y="3390840"/>
            <a:ext cx="556236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5T06:50:28Z</dcterms:created>
  <dc:creator>Unknown User</dc:creator>
  <dc:description/>
  <dc:language>en-US</dc:language>
  <cp:lastModifiedBy>lucian</cp:lastModifiedBy>
  <cp:lastPrinted>2014-03-23T21:00:55Z</cp:lastPrinted>
  <dcterms:modified xsi:type="dcterms:W3CDTF">2014-03-23T21:01:05Z</dcterms:modified>
  <cp:revision>178</cp:revision>
  <dc:subject/>
  <dc:title>PowerPoint Presentation</dc:title>
</cp:coreProperties>
</file>