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38433609-150C-4188-BDB7-0A166A5245C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474F3BBE-E846-4803-A6E7-7454CFAEC61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6B5-4780-43D4-AF68-FE6352FC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701-C886-4180-93C6-66AE7CD9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E0C-8148-4026-BB21-271D6EA9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5C9-6E9B-4AB4-9150-AB05BDE8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624-087D-4FA2-97E6-F1FA45B6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996-B9F2-40EF-92EF-0DE0E0E0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822-645E-4549-8563-4B2417DB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34F-7DDD-4CC0-877E-73BC3BBF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C54-457D-40F1-985D-FC32E100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A74-9673-49C9-9B37-F35AF6B3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1B1-7539-4B76-A08C-05721644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D4C-27DF-4F45-B623-B9FF9CD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9EA0FE8A-C9B2-487A-BEF4-E3B38482191C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257"/>
          <p:cNvSpPr txBox="1"/>
          <p:nvPr/>
        </p:nvSpPr>
        <p:spPr>
          <a:xfrm>
            <a:off x="762120" y="8001000"/>
            <a:ext cx="5638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260"/>
          <p:cNvSpPr/>
          <p:nvPr/>
        </p:nvSpPr>
        <p:spPr>
          <a:xfrm>
            <a:off x="533520" y="3276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, MODERNIZ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TRADA ASCHERMAN VENDREI FEREN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IN MUNICIPIUL SFANTU GHEORGH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14-03-28T03:36:24Z</cp:lastPrinted>
  <dcterms:modified xsi:type="dcterms:W3CDTF">2014-03-28T05:16:11Z</dcterms:modified>
  <cp:revision>184</cp:revision>
  <dc:subject/>
  <dc:title>PowerPoint Presentation</dc:title>
</cp:coreProperties>
</file>