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74400" y="726840"/>
            <a:ext cx="2511720" cy="362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lstStyle>
            <a:lvl1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0F57AA90-424A-4454-A8D2-9DC540E4044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079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b">
            <a:noAutofit/>
          </a:bodyPr>
          <a:p>
            <a:pPr algn="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84F8F27D-72FC-4E7E-A21C-6FD49CE3F71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2174760" y="727200"/>
            <a:ext cx="2511720" cy="362556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9D8B-CA8A-4902-89D0-63BB8AE4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CE8-670A-4AB0-8D4F-E5D50E1E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4D01-B673-454E-8036-D8B65A24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55E6-1599-4A22-AE03-F3A28089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071-445C-4676-AF83-FE6D3731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1897-A637-4D95-AA8F-03311E57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A3F-33A9-4DF4-AE6C-1020F041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A688-D16A-4F65-834E-484A32F4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DE7A-C1E0-4F96-839D-C2D16755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7D5E-CE55-4BCE-9F3F-342219AA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98E-4750-4BFC-99E4-BC74F2FE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4461-42FC-49E1-875C-D5B17C13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GB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EEDF24FB-EB70-4A2F-A690-156066C80D80}" type="slidenum"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3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38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257"/>
          <p:cNvSpPr txBox="1"/>
          <p:nvPr/>
        </p:nvSpPr>
        <p:spPr>
          <a:xfrm>
            <a:off x="762120" y="8001000"/>
            <a:ext cx="5638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CUMENTATIE DE AVIZARE A LUCRARILOR DE INTERVENTI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" name="Rectangle 260"/>
          <p:cNvSpPr/>
          <p:nvPr/>
        </p:nvSpPr>
        <p:spPr>
          <a:xfrm>
            <a:off x="533520" y="32767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,, MODERNIZ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TRADA ASCHERMAN VENDREI FEREN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IN MUNICIPIUL SFANTU GHEORGH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lucian</cp:lastModifiedBy>
  <cp:lastPrinted>2014-03-28T03:36:24Z</cp:lastPrinted>
  <dcterms:modified xsi:type="dcterms:W3CDTF">2014-03-28T05:16:11Z</dcterms:modified>
  <cp:revision>184</cp:revision>
  <dc:subject/>
  <dc:title>PowerPoint Presentation</dc:title>
</cp:coreProperties>
</file>