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74400" y="726840"/>
            <a:ext cx="2511720" cy="362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lstStyle>
            <a:lvl1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7AF06509-30CE-4CE4-9574-E4249BE62A7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079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b">
            <a:no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B0F989A3-1540-4CD7-B3C6-7209B060FD7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2174760" y="727200"/>
            <a:ext cx="2511720" cy="362556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597-710D-4F3C-9965-4E2D9973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104-B504-406B-9786-63E6CE25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D511-AEBE-4806-A500-9F797B80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063-02C1-4E91-BEB9-1E081354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65DE-05FA-4C5C-8C0D-FB6986B9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1044-4DC5-45B0-AC9A-1199ECC6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ADCF-6223-4BF4-822A-2ACC6BB8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0394-C321-4015-BDFB-8CA6C882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C98C-FDEA-4799-B16B-9F3E4B2E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BE3-F801-44CA-82C7-930AC262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D51-4899-43C9-A59B-6B40061C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C76-BF86-4597-82D7-22C5CD71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GB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50C6B626-FDC7-4CD4-891B-E65E6DCCEF80}" type="slidenum"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3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38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257"/>
          <p:cNvSpPr txBox="1"/>
          <p:nvPr/>
        </p:nvSpPr>
        <p:spPr>
          <a:xfrm>
            <a:off x="762120" y="8001000"/>
            <a:ext cx="5638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UMENTATIE DE AVIZARE A LUCRARILOR DE INTERVENTI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" name="Rectangle 260"/>
          <p:cNvSpPr/>
          <p:nvPr/>
        </p:nvSpPr>
        <p:spPr>
          <a:xfrm>
            <a:off x="762120" y="32767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Modernizare Strada Bartok Bela, municipiul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judetul Covasna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lucian</cp:lastModifiedBy>
  <cp:lastPrinted>2010-02-28T18:51:42Z</cp:lastPrinted>
  <dcterms:modified xsi:type="dcterms:W3CDTF">2014-03-27T18:22:35Z</dcterms:modified>
  <cp:revision>183</cp:revision>
  <dc:subject/>
  <dc:title>PowerPoint Presentation</dc:title>
</cp:coreProperties>
</file>