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015C-29AB-47CA-B8E9-696624E1B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AE7E-6FB1-4A1D-8706-B1B3F90A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2BF2-38A6-4488-986A-EA28DB901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616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8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616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5734-D405-4DD0-9EAA-F042AE0D6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375"/>
              </a:spcBef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1FCA-DE49-4349-9B30-A88D0E2C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93CB-8C38-4DEF-AEF0-F254EE6B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F2EF-B676-4E1E-A01D-E5B2A9E6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5B45-7F8D-4904-B9DA-40484246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880" y="878040"/>
            <a:ext cx="58262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375"/>
              </a:spcBef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E426-12C0-45D4-8732-CA3158A1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977F-2D84-491A-8498-CDE6B8D0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EE3C-20DC-4C99-8DA1-F0B808AC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2FCC-4082-4A76-B23B-54D6F023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880" y="878040"/>
            <a:ext cx="5826240" cy="165096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33000"/>
          </a:bodyPr>
          <a:p>
            <a:pPr marL="325800" indent="-32580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7760" indent="-27504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468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0280" indent="-21672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5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1440" y="9031320"/>
            <a:ext cx="217512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29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fld id="{5D3E4BE7-5AAE-4361-A4CF-E6B99D0AE565}" type="slidenum"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44520"/>
            <a:ext cx="5715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3160" rIns="263160" tIns="131760" bIns="131760" anchor="t">
            <a:spAutoFit/>
          </a:bodyPr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ENEFICIAR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NICIPIUL SFANTU GHEORG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880" y="8763120"/>
            <a:ext cx="5802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ABORATO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 TOP PROIECT &amp; CONSULTING - Sfantu Gheorg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327672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바탕"/>
              </a:rPr>
              <a:t>,,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Modernizare Strada Voican 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바탕"/>
              </a:rPr>
              <a:t>Sfantu Gheorghe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62120" y="8077320"/>
            <a:ext cx="56386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OIECT TEHNIC SI DETALII DE EXECUTI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6:50:28Z</dcterms:created>
  <dc:creator>Unknown User</dc:creator>
  <dc:description/>
  <dc:language>en-US</dc:language>
  <cp:lastModifiedBy>xx</cp:lastModifiedBy>
  <cp:lastPrinted>2010-02-28T18:51:42Z</cp:lastPrinted>
  <dcterms:modified xsi:type="dcterms:W3CDTF">2011-12-09T21:53:53Z</dcterms:modified>
  <cp:revision>184</cp:revision>
  <dc:subject/>
  <dc:title>PowerPoint Presentation</dc:title>
</cp:coreProperties>
</file>