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C1E-5CC1-4928-9E8F-7E4194A6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578-AD32-453A-AEF5-918E82DB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E94-F27B-442D-BF18-6703F5B8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A69-626E-4014-9444-35E89151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307-7436-4264-933C-91C0DC20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FC8-8C5F-42A0-A3E8-E992DA3A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B51-DC56-444C-B7EF-55EFB3A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6BE-D5F9-4C59-AD89-58FA0AAB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18F-FD18-433B-84D2-2670A0B2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273-0FF4-4691-BA55-2CB57CA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780-296D-4692-9346-397183E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5F0-DC16-44E6-BA50-6730D76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D2B08647-482E-4D0F-8EFE-C1B092AA637C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NICIPIUL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 TEHNIC SI DETALII DE EXECU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276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Pescarilor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1-12-09T21:53:58Z</dcterms:modified>
  <cp:revision>185</cp:revision>
  <dc:subject/>
  <dc:title>PowerPoint Presentation</dc:title>
</cp:coreProperties>
</file>