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90B8-4E5F-48F9-9486-13EF70E72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3EE3-6682-49EA-B34C-FC3A7765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7CF1-D006-4F84-BA2F-DFEA6D87E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616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8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616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611E-592C-481D-AC3E-EF64F824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375"/>
              </a:spcBef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A6D7-356E-4927-A017-75316F09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C027-5AEC-49C3-A54A-970F280B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44AF-10B7-48BF-A3AD-469AA31A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EB3C-9D71-4BE6-B7B3-FE3D4AFB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880" y="878040"/>
            <a:ext cx="58262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375"/>
              </a:spcBef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7D79-A787-46CE-AB42-6A1327BF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EF99-2920-4EC7-951A-2409861C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784D-7478-42C0-BB7C-6D3D7B0C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69B3-C5AC-456B-81BD-1CC68D0A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880" y="878040"/>
            <a:ext cx="5826240" cy="165096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33000"/>
          </a:bodyPr>
          <a:p>
            <a:pPr marL="325800" indent="-32580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7760" indent="-27504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468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0280" indent="-21672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5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1440" y="9031320"/>
            <a:ext cx="217512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29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fld id="{54F2DD5F-56F9-45A9-9E27-E42D3EE7AABE}" type="slidenum"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44520"/>
            <a:ext cx="5715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3160" rIns="263160" tIns="131760" bIns="131760" anchor="t">
            <a:spAutoFit/>
          </a:bodyPr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ENEFICIAR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NICIPIUL SFANTU GHEORG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880" y="8763120"/>
            <a:ext cx="5802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ABORATO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 TOP PROIECT &amp; CONSULTING - Sfantu Gheorg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62120" y="8001000"/>
            <a:ext cx="56386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OIECT TEHNIC SI DETALII DE EXECUTI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327672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바탕"/>
              </a:rPr>
              <a:t>,,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Modernizare Strada Crizantemei , mun.</a:t>
            </a:r>
            <a:r>
              <a:rPr b="1" lang="fr-FR" sz="2400" spc="-1" strike="noStrike">
                <a:solidFill>
                  <a:srgbClr val="000000"/>
                </a:solidFill>
                <a:latin typeface="바탕"/>
              </a:rPr>
              <a:t>Sfantu Gheorghe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6:50:28Z</dcterms:created>
  <dc:creator>Unknown User</dc:creator>
  <dc:description/>
  <dc:language>en-US</dc:language>
  <cp:lastModifiedBy>xx</cp:lastModifiedBy>
  <cp:lastPrinted>2010-02-28T18:51:42Z</cp:lastPrinted>
  <dcterms:modified xsi:type="dcterms:W3CDTF">2011-12-09T20:58:23Z</dcterms:modified>
  <cp:revision>184</cp:revision>
  <dc:subject/>
  <dc:title>PowerPoint Presentation</dc:title>
</cp:coreProperties>
</file>