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AA7D-CF60-4BDB-B676-775DCE5F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A745-17FB-4356-978C-9723099A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90B5-EBE5-46B8-96E6-8B567D7A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EA5-956E-48B1-B8A9-39471A674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01DB-0A7A-45AB-B0E3-5D61AE4F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0383-6BCD-49DA-AC8E-E0B1028B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EBDC-5481-4E76-9036-0371861D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FD87-B0E9-4E4F-A142-31307C81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481A-21CD-41AC-AB00-54E262F3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D8F8-17EA-41E0-AF89-4E8C237C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B4BC-E737-42DA-9D63-B449E1FC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1296-024F-49B3-877E-649A9F5B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27438D7D-4117-4C65-B64E-8560CBBDEF7C}" type="slidenum"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6640" y="344520"/>
            <a:ext cx="5329080" cy="86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5919840" cy="1339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Reabilitare Strada Vanatorilor, situata intre strada Ghioceilor si Panorama Lunii, </a:t>
            </a: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IMARIA MUNICIPIULUI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52480" y="792468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PERTIZA TEHN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6" name="SANY0182" descr=""/>
          <p:cNvPicPr/>
          <p:nvPr/>
        </p:nvPicPr>
        <p:blipFill>
          <a:blip r:embed="rId1"/>
          <a:stretch/>
        </p:blipFill>
        <p:spPr>
          <a:xfrm>
            <a:off x="762120" y="3390840"/>
            <a:ext cx="556236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xx</cp:lastModifiedBy>
  <cp:lastPrinted>2009-02-10T18:44:43Z</cp:lastPrinted>
  <dcterms:modified xsi:type="dcterms:W3CDTF">2010-11-02T18:44:04Z</dcterms:modified>
  <cp:revision>177</cp:revision>
  <dc:subject/>
  <dc:title>PowerPoint Presentation</dc:title>
</cp:coreProperties>
</file>