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B26-8410-4365-8860-051560E3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E3BF-003C-40B1-9980-959AFC5E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A1B5-A283-44B3-B0D0-0DA38A7D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CF1-17DD-48E2-9C06-6B8D8438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FE00-D700-476D-A596-70E30C98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01B-71FB-43A1-AACA-5F6A7CCA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04D6-D853-4E92-80D3-024362DC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FC3B-6A6C-4CC6-95D2-39C56B0A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A6B4-3624-4F6C-8E77-27C86289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2B35-A13D-4640-BC83-F3A9A987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EA6-DEF3-4C24-BEBB-CBBEF11F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3EF-B186-4690-B8EE-386246D7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4E15DA0F-5FB6-492E-BC4C-EDFF91FD3458}" type="slidenum"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6640" y="344520"/>
            <a:ext cx="5329080" cy="86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5919840" cy="14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Reabilitare Strada Vanatorilor, situata intre strada Ghioceilor si Panorama Lunii,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8001000"/>
            <a:ext cx="5867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CUMENTATIE DE AVIZARE A LUCRARILOR DE INTERVENT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6" name="SANY0182" descr=""/>
          <p:cNvPicPr/>
          <p:nvPr/>
        </p:nvPicPr>
        <p:blipFill>
          <a:blip r:embed="rId1"/>
          <a:stretch/>
        </p:blipFill>
        <p:spPr>
          <a:xfrm>
            <a:off x="762120" y="3390840"/>
            <a:ext cx="556236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xx</cp:lastModifiedBy>
  <cp:lastPrinted>2010-02-28T18:51:42Z</cp:lastPrinted>
  <dcterms:modified xsi:type="dcterms:W3CDTF">2010-11-03T20:53:27Z</dcterms:modified>
  <cp:revision>182</cp:revision>
  <dc:subject/>
  <dc:title>PowerPoint Presentation</dc:title>
</cp:coreProperties>
</file>