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467-151A-4891-B79D-1E4F2F8B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8DC-4190-4CE9-9E9B-084C3BD8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4C8-7072-49E7-AA8D-6EC46A5B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7C0-36AE-4C2B-BA9C-96D09EAD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060-0B75-4180-80D3-BB9B4EA0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60C-02D3-434D-9F1D-60D7568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2F7-7CD2-44A7-814E-8C6FBCC5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267-04AE-4FAF-B716-52BE9990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A47-45E9-4368-990D-5F08CB99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921-8AB3-4B4B-A9EC-A51FC76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F34-FCE7-46FF-926C-6F704EF3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7C9-AF89-441E-AA12-D1D4393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DE2698CD-D5FC-4D29-B34D-A935F5FFA29A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Vanatorilor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8001000"/>
            <a:ext cx="5867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SANY0182" descr=""/>
          <p:cNvPicPr/>
          <p:nvPr/>
        </p:nvPicPr>
        <p:blipFill>
          <a:blip r:embed="rId1"/>
          <a:stretch/>
        </p:blipFill>
        <p:spPr>
          <a:xfrm>
            <a:off x="762120" y="339084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0-11-03T20:53:27Z</dcterms:modified>
  <cp:revision>182</cp:revision>
  <dc:subject/>
  <dc:title>PowerPoint Presentation</dc:title>
</cp:coreProperties>
</file>