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C40-5250-406B-966F-BABF81CA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FFE-0362-461C-8D6D-4CF9A109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DBF-FFF2-471F-A62F-42236212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457-2358-4870-AB33-FEF40B8A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BA3-66D7-453B-A5CD-2D01DF55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98D-AB46-43A3-A0FF-D560F52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3B6-9137-4AD1-997A-BD0F8872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797-52C1-4F58-9DA7-FD916E3F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BCE-BF68-441B-BD02-88A9CB17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1F4-34F5-4DFF-84A8-FF289831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D87-16BE-4212-B1F0-BC1A0E9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527-9BC9-46F2-9534-B59ED2C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91468C75-D167-4C02-8CE9-5C810947C927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Vanatorilor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SANY0182" descr=""/>
          <p:cNvPicPr/>
          <p:nvPr/>
        </p:nvPicPr>
        <p:blipFill>
          <a:blip r:embed="rId1"/>
          <a:stretch/>
        </p:blipFill>
        <p:spPr>
          <a:xfrm>
            <a:off x="762120" y="339084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09-02-10T18:44:43Z</cp:lastPrinted>
  <dcterms:modified xsi:type="dcterms:W3CDTF">2010-11-02T18:44:04Z</dcterms:modified>
  <cp:revision>177</cp:revision>
  <dc:subject/>
  <dc:title>PowerPoint Presentation</dc:title>
</cp:coreProperties>
</file>