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67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77BB-E733-4F3C-8268-EDBD2F845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880" y="59630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11B8-7B4E-4258-93DF-B7B1B4443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13E5-B0F6-4463-9155-4CF9FC749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616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588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616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9A1D-31CF-40C4-A271-BBB721470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375"/>
              </a:spcBef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E170-D4C1-4448-99B0-307339363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6BDA-647A-4725-83E3-4E8779BD3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C4CD-20E8-4408-B37E-54D65AFE1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48A3-03FC-4D2B-9BC8-CAC188C76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5880" y="878040"/>
            <a:ext cx="582624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375"/>
              </a:spcBef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577E-6800-48EF-8AA8-4A7EE11CF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4981-AD4B-4031-ACBD-5D3DAA2F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30EA-4F84-40CC-8FDA-7923266B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2667-49A3-49E9-B059-5E97FBDC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5880" y="878040"/>
            <a:ext cx="5826240" cy="165096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33000"/>
          </a:bodyPr>
          <a:p>
            <a:pPr marL="325800" indent="-325800">
              <a:spcBef>
                <a:spcPts val="2375"/>
              </a:spcBef>
              <a:buClr>
                <a:srgbClr val="000000"/>
              </a:buClr>
              <a:buFont typeface="Times New Roman"/>
              <a:buChar char="•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1" marL="707760" indent="-275040">
              <a:spcBef>
                <a:spcPts val="2375"/>
              </a:spcBef>
              <a:buClr>
                <a:srgbClr val="000000"/>
              </a:buClr>
              <a:buFont typeface="Times New Roman"/>
              <a:buChar char="–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468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•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3" marL="1520280" indent="-216720">
              <a:spcBef>
                <a:spcPts val="2375"/>
              </a:spcBef>
              <a:buClr>
                <a:srgbClr val="000000"/>
              </a:buClr>
              <a:buFont typeface="Times New Roman"/>
              <a:buChar char="–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5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6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5520" y="9031320"/>
            <a:ext cx="142884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lstStyle>
            <a:lvl1pPr indent="0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  <a:defRPr b="0" lang="en-US" sz="4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1440" y="9031320"/>
            <a:ext cx="217512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lstStyle>
            <a:lvl1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  <a:defRPr b="0" lang="en-US" sz="4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2920" y="9031320"/>
            <a:ext cx="142884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lstStyle>
            <a:lvl1pPr indent="0" algn="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  <a:defRPr b="0" lang="en-US" sz="4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fld id="{17372087-EB25-4882-BD35-8335DFF8A07B}" type="slidenum"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6640" y="344520"/>
            <a:ext cx="5329080" cy="865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676520"/>
            <a:ext cx="5919840" cy="1447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바탕"/>
              </a:rPr>
              <a:t>,, </a:t>
            </a:r>
            <a:r>
              <a:rPr b="1" sz="2400" spc="-1" strike="noStrike">
                <a:solidFill>
                  <a:srgbClr val="000000"/>
                </a:solidFill>
                <a:latin typeface="바탕"/>
              </a:rPr>
              <a:t>Reabilitare Strada Salcamilor, situata intre strada Ghioceilor si Ion Luca Caragiale, </a:t>
            </a:r>
            <a:r>
              <a:rPr b="1" lang="fr-FR" sz="2400" spc="-1" strike="noStrike">
                <a:solidFill>
                  <a:srgbClr val="000000"/>
                </a:solidFill>
                <a:latin typeface="바탕"/>
              </a:rPr>
              <a:t>Sfantu Gheorghe </a:t>
            </a:r>
            <a:r>
              <a:rPr b="1" sz="2400" spc="-1" strike="noStrike">
                <a:solidFill>
                  <a:srgbClr val="000000"/>
                </a:solidFill>
                <a:latin typeface="바탕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344520"/>
            <a:ext cx="5715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3160" rIns="263160" tIns="131760" bIns="131760" anchor="t">
            <a:spAutoFit/>
          </a:bodyPr>
          <a:p>
            <a:pPr algn="ctr"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ENEFICIAR 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RIMARIA MUNICIPIULUI SFANTU GHEORG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880" y="8763120"/>
            <a:ext cx="58028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Times New Roman"/>
              </a:rPr>
              <a:t>ELABORATOR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SC TOP PROIECT &amp; CONSULTING - Sfantu Gheorg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09480" y="8001000"/>
            <a:ext cx="58676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OCUMENTATIE DE AVIZARE A LUCRARILOR DE INTERVENTI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46" name="SANY0205" descr=""/>
          <p:cNvPicPr/>
          <p:nvPr/>
        </p:nvPicPr>
        <p:blipFill>
          <a:blip r:embed="rId1"/>
          <a:stretch/>
        </p:blipFill>
        <p:spPr>
          <a:xfrm>
            <a:off x="914400" y="3505320"/>
            <a:ext cx="5181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5T06:50:28Z</dcterms:created>
  <dc:creator>Unknown User</dc:creator>
  <dc:description/>
  <dc:language>en-US</dc:language>
  <cp:lastModifiedBy>xx</cp:lastModifiedBy>
  <cp:lastPrinted>2010-02-28T18:51:42Z</cp:lastPrinted>
  <dcterms:modified xsi:type="dcterms:W3CDTF">2010-11-03T20:53:15Z</dcterms:modified>
  <cp:revision>181</cp:revision>
  <dc:subject/>
  <dc:title>PowerPoint Presentation</dc:title>
</cp:coreProperties>
</file>