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AD99-5E9F-45D8-9CB8-72A0411F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DD9-75C6-4D3D-A41F-9568A2A1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0ED-8D24-41BE-81C4-AEAA0C71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1F5-B2C1-42A3-892E-905E45D8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10D5-7364-4621-90AD-9E932EA4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5A24-F340-45CE-BA7C-4770614F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C26-6163-4582-B4D0-4A47F1F3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662-6716-484D-9FF6-9556C7E6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C643-3186-4CE1-9B0F-4289D928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5F4-4B80-4B9D-B906-11868E36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8CD4-0118-410B-813C-E591D3A8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218-BD02-487D-A6ED-6BC83388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84128748-0D01-4C52-A968-9536C3A37B68}" type="slidenum"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5919840" cy="1339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Reabilitare Strada Salcamilor, situata intre strada Ghioceilor si Ion Luca Caragiale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52480" y="79246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RTIZA TEHN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6" name="SANY0205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xx</cp:lastModifiedBy>
  <cp:lastPrinted>2009-02-10T18:44:43Z</cp:lastPrinted>
  <dcterms:modified xsi:type="dcterms:W3CDTF">2010-11-03T20:53:05Z</dcterms:modified>
  <cp:revision>177</cp:revision>
  <dc:subject/>
  <dc:title>PowerPoint Presentation</dc:title>
</cp:coreProperties>
</file>