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BC1-7337-4EF6-A4A9-8D560964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0DF6-C8F3-48D9-A1DB-3494B24A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C9D-5467-4DFB-A99B-302D4C72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200-75F0-491B-AF08-E638580F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4C4-10CC-498F-B661-E71AE085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B92-156C-4129-8B0F-17F60E8F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3C8-EB0D-4636-AF2C-24E469C0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37C-108D-4DAD-9AEE-41D7CA9D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AE0-4CEC-4A89-8199-80A239C5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AEC-C977-432D-B67E-84644E7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D5D-D46B-407A-97CE-F78274F6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37C-4924-4803-A1F6-3E34CF41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1A92E1C8-D74B-4D8C-A0DA-1342EFC69CED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Dioszeghey Laszlo, situata intre strada Ghioceilor s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anorama Lumii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8001000"/>
            <a:ext cx="5867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4510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finna.cornelia</cp:lastModifiedBy>
  <cp:lastPrinted>2010-02-28T18:51:42Z</cp:lastPrinted>
  <dcterms:modified xsi:type="dcterms:W3CDTF">2011-03-25T12:41:43Z</dcterms:modified>
  <cp:revision>182</cp:revision>
  <dc:subject/>
  <dc:title>PowerPoint Presentation</dc:title>
</cp:coreProperties>
</file>