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5029-A480-4361-A69F-D8C7A1B56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AB45-AF1F-497F-8F73-DD5D3EE9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8F58-3CE8-4BE0-B6C8-BB1AB6E11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616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8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616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B730-1CD2-4647-8FA7-A411D8758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375"/>
              </a:spcBef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44BF-499C-4008-ABBD-98BDF0A3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03EC-C1D0-4407-A37E-96453ECE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CBB6-C22F-4F9F-84D5-718727D7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7096-6DF3-4B08-8DD6-4FEADFC3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880" y="878040"/>
            <a:ext cx="58262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375"/>
              </a:spcBef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5251-DC6C-4FFD-AE5D-A39D552F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B043-BDA7-4893-BCE7-B5A52A4F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ABC6-8B38-406C-84D6-9FEBE96F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AF45-8B70-4930-80B5-127DC1AE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5880" y="878040"/>
            <a:ext cx="5826240" cy="165096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33000"/>
          </a:bodyPr>
          <a:p>
            <a:pPr marL="325800" indent="-32580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7760" indent="-27504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468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0280" indent="-21672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55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1440" y="9031320"/>
            <a:ext cx="217512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29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fld id="{2B78F2E1-8539-410B-87FC-983F77A04BBD}" type="slidenum"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6640" y="344520"/>
            <a:ext cx="5329080" cy="865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676520"/>
            <a:ext cx="5919840" cy="1339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바탕"/>
              </a:rPr>
              <a:t>,,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Reabilitare Strada Dioszeghey Laszlo, situata intre strada Ghioceilor si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Panorama Lumii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, </a:t>
            </a:r>
            <a:r>
              <a:rPr b="1" lang="fr-FR" sz="2400" spc="-1" strike="noStrike">
                <a:solidFill>
                  <a:srgbClr val="000000"/>
                </a:solidFill>
                <a:latin typeface="바탕"/>
              </a:rPr>
              <a:t>Sfantu Gheorghe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344520"/>
            <a:ext cx="5715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3160" rIns="263160" tIns="131760" bIns="131760" anchor="t">
            <a:spAutoFit/>
          </a:bodyPr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ENEFICIAR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RIMARIA MUNICIPIULUI SFANTU GHEORG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880" y="8763120"/>
            <a:ext cx="5802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Times New Roman"/>
              </a:rPr>
              <a:t>ELABORATO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SC TOP PROIECT &amp; CONSULTING - Sfantu Gheorg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752480" y="7924680"/>
            <a:ext cx="3429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PERTIZA TEHN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95280" y="3276720"/>
            <a:ext cx="4510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5T06:50:28Z</dcterms:created>
  <dc:creator>Unknown User</dc:creator>
  <dc:description/>
  <dc:language>en-US</dc:language>
  <cp:lastModifiedBy>finna.cornelia</cp:lastModifiedBy>
  <cp:lastPrinted>2009-02-10T18:44:43Z</cp:lastPrinted>
  <dcterms:modified xsi:type="dcterms:W3CDTF">2011-03-25T12:42:05Z</dcterms:modified>
  <cp:revision>179</cp:revision>
  <dc:subject/>
  <dc:title>PowerPoint Presentation</dc:title>
</cp:coreProperties>
</file>