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E50F-6419-44AE-A384-E03EA3F1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B207-4CA4-4521-8023-20A096A2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149-54DE-4A3D-908B-44481D4E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942-5AAE-4409-A0F6-711BCCAA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014-6BA2-4560-ABBF-686AA945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FE5-8159-4205-AECA-A0112DFC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BE18-9A18-4F3B-94F4-698DAC58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04A8-A032-41E8-B16A-A1177546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DA82-764B-48C5-8010-120019F6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7DC-BCCA-41F0-9A43-842C9D6B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F11-20A6-4C02-A35B-2BF954C5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162A-DD1B-44AE-8C74-B35B906D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68CEAD3D-82E7-4FDD-B7A9-299DE01C0D76}" type="slidenum"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6640" y="344520"/>
            <a:ext cx="532908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5919840" cy="14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Reabilitare Strada Cserey Janosne, situata intre strada Ghioceilor si Panorama Lunii,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8001000"/>
            <a:ext cx="5867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CUMENTATIE DE AVIZARE A LUCRARILOR DE INTERVENT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6" name="Fotografii-0045" descr=""/>
          <p:cNvPicPr/>
          <p:nvPr/>
        </p:nvPicPr>
        <p:blipFill>
          <a:blip r:embed="rId1"/>
          <a:stretch/>
        </p:blipFill>
        <p:spPr>
          <a:xfrm>
            <a:off x="1467000" y="3429000"/>
            <a:ext cx="440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xx</cp:lastModifiedBy>
  <cp:lastPrinted>2010-02-28T18:51:42Z</cp:lastPrinted>
  <dcterms:modified xsi:type="dcterms:W3CDTF">2010-11-21T13:23:15Z</dcterms:modified>
  <cp:revision>180</cp:revision>
  <dc:subject/>
  <dc:title>PowerPoint Presentation</dc:title>
</cp:coreProperties>
</file>