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32B-F2FA-4902-ABC3-8DD04371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338-6EE9-485D-A16A-0BA692B1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4D5-75FD-428F-9138-2C14B1F9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B35-67B4-49CE-A4C2-67B0FD06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EF9-66D6-4971-BC6B-87A08E51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C46-C944-4348-AD5E-4F3BF6E6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55E-BA7C-4E9F-9308-582BE6F9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053-6A8F-42B6-AEC5-60AE583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AC7-8458-4E36-9F5C-AD60A8DA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556-F382-4794-8DD3-BC02138D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555-2D44-4F9B-92B9-0D0DE646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F58-7757-4F7B-A207-CEA40015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C94CF903-E8E0-43E7-88E5-2E68F2FF0248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Cserey Janosne, situata intre strada Ghioceilor si Panorama Lun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Fotografii-0045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4400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09-02-10T18:44:43Z</cp:lastPrinted>
  <dcterms:modified xsi:type="dcterms:W3CDTF">2011-01-03T14:40:13Z</dcterms:modified>
  <cp:revision>179</cp:revision>
  <dc:subject/>
  <dc:title>PowerPoint Presentation</dc:title>
</cp:coreProperties>
</file>