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666-FEFE-4E36-9435-8141F083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7B9-27E8-4A35-9E30-116C4EA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E17-FDE9-4966-B8EB-6626F5AA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076-6D86-4ABE-BF7F-18671B90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1E9-E938-4B51-8552-BBC32C0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8EC-9FBA-49AD-9C6B-D0CDE22D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214-B56A-4ED1-A839-AEF7F0C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DFB-F193-41D6-965A-A9509F93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7A9-F241-4F1A-9296-76E9040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0F1-3BF4-431F-BA50-5E0E7CC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8DE-B4D6-44F3-AFBD-2682C2E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394-D912-4366-92A2-14B613E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0E9D3EB7-A0F0-497C-94FD-79F320D8FCA4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276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trotu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바탕"/>
              </a:rPr>
              <a:t>Strada Grof Miko Imre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03-14T11:10:47Z</dcterms:modified>
  <cp:revision>179</cp:revision>
  <dc:subject/>
  <dc:title>PowerPoint Presentation</dc:title>
</cp:coreProperties>
</file>