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31C-4CFA-474E-8E5F-F63E5353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E0B-B293-4936-97F4-A46B9401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45E-3C78-4501-9D5F-BB079E76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A67-3E56-4E5E-8935-C1B23499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2A5-3149-4D6E-AD25-9D5E0C11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84D-67D4-433E-B1BD-D885684C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341-C0B0-41AD-A970-5D8F1A76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15C-DE7F-448B-BEE8-AE332CEA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F48-17ED-49E0-B1D5-28C49646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EF4-AA7E-4AA8-9BEF-FA90DEBA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5AB-02B4-4CE5-8C9C-64D53F5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ABC-8E17-41D1-BB97-A50AC848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767E-F118-4667-ADAE-5991766FB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2381400"/>
            <a:ext cx="12192120" cy="447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12192120" cy="2381400"/>
          </a:xfrm>
          <a:prstGeom prst="rect">
            <a:avLst/>
          </a:prstGeom>
          <a:solidFill>
            <a:srgbClr val="54823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agrofoodcovasna.ro/uploads/Coa_Romania_Town_Sepsiszentgyrgy.svg.png"/>
          <p:cNvPicPr/>
          <p:nvPr/>
        </p:nvPicPr>
        <p:blipFill>
          <a:blip r:embed="rId1"/>
          <a:stretch/>
        </p:blipFill>
        <p:spPr>
          <a:xfrm>
            <a:off x="4862520" y="1309680"/>
            <a:ext cx="247644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1T15:18:35Z</dcterms:created>
  <dc:creator>Robert</dc:creator>
  <dc:description/>
  <dc:language>en-US</dc:language>
  <cp:lastModifiedBy>Rusznak</cp:lastModifiedBy>
  <dcterms:modified xsi:type="dcterms:W3CDTF">2015-12-21T17:28:01Z</dcterms:modified>
  <cp:revision>4</cp:revision>
  <dc:subject/>
  <dc:title>PowerPoint Presentation</dc:title>
</cp:coreProperties>
</file>